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7C3-0FCD-44F4-A85A-EA4D7877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95A-0465-4F88-AA5E-3638A52C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4AA-19DA-4CAA-82C4-0D74D5AE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730-0D90-4FD8-83B5-A6BDB6FC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E1B-D269-4AD2-96AF-6CA8B3ED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5D47-E275-4EEA-9111-E231D971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759F-8D7E-42B4-A0B6-07D6B845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F125-40BB-43F9-B0D3-FEA3E063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8C6-9878-4A32-9647-40A6F947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4BE1-1F7C-43E7-8C57-92A58469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24F1-604B-4800-B69B-439E618B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9B1-E4DF-419F-A69B-16DA26E8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9FE7-D00D-4DC4-B179-629CAB2E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00FA-30DE-4F0F-B724-F747870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B509-B61E-4E6E-B367-8CF97DED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44C6-7193-479E-8981-F4A2CAA5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80D0-90AF-41B1-BD1C-19E0303D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C68-AC63-4831-8F4C-9C129C71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DAE-0AB0-4A42-9259-86348EA5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EDC-406F-40BB-BABA-09DD10B7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9C5-E404-4139-ADA3-B0DB953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1F1-8E78-449F-9280-5253CD7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624-F3FC-46EF-B81D-61F1A66C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D4B-CB60-45E1-9EED-E9D4322F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E3F8-F95B-49AA-82A5-552CE4C739E5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C18C-E882-45ED-B3E4-2CAFFB6D286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орбные страницы истории на Родине деда: Хатынская трагедия на Белорусской земл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0" r="0" b="1645"/>
          <a:stretch/>
        </p:blipFill>
        <p:spPr>
          <a:xfrm>
            <a:off x="2916360" y="260280"/>
            <a:ext cx="3744720" cy="4608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79280" y="11160"/>
            <a:ext cx="316872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 сером сумраке скупо переговаривались мужчины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Поближе друг к дружке жалась родня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купо пробивался сквозь незаконопаченные ще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еселый свет вешнего дня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Люди еще в избавление верил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Хоть тревога не покидала сердец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Но когда услыхали, как заколачивают ще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И запахло бензином ,  стало ясно – это конец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аратели бензином последнюю свечку надежд затушил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квозь щели пламя стало втыкать кривые нож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И бабы заголосили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«А, детки, а вы ж  еще не успели пожить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ноженьки не успели находи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рученьки не успели натруди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глазоньки не успели нагляде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ы ж внуками не успели порадовать нас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Солнышки наши, кровинушки наш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Детки, за что ж они вас?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тогда вскинули мужчины кулаки в бессилье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ыдохнули хрипло, как один человек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Солнцем полдневным, небом    синим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ждой звездой вечерней, каждой рассветной росинко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вашей могиле колом осиновы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, убийц, проклинаем навек»…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77080" y="115920"/>
            <a:ext cx="2484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Бревна уже превращались в уголь,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Нестерпимым жаром дышало из каждого угл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Над головами гуляла огненная вьюга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Крепчала, разрасталась, мел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Уже не искры, а снопы адского пламени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Обрушились со стрех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 люди от них отбивались руками голым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 заскворчали на плечах кожух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От немого крика обвалилась пуня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Грохнули  оземь двер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, упав, как багровый куль холодный снег искала слепая бабул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А нашла только горсть раскаленных пуль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рочили пулеметы по огню, по стонам, по плачу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дел и падал печальный охрипший крик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от остался только тоненький писк ребячий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о и он покачнулся и сник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30640"/>
            <a:ext cx="67690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гда скинуло винтовки черношинельное                                                              войско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ся округа была безмолвием оглушен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овь остывала, хаты догорал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д селом, как над  погостом стояла мертвая тишин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каратели смотрели глазами пусты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ошалелый кот вылизывал тлеющий мех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лежал, не тая, в Хатын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асный снег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03640" y="260280"/>
            <a:ext cx="3097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97254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асный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97254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97254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лый снег Хатын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97254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7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8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9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04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Бывшая деревенская улица выложена серыми, под цвет пепла, железобетонными плитами. Идут и идут по ней люди, чтобы поклониться памяти тех, кто не покорился, не стал перед врагом на колен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Мемориал «Хатынь» служит для нас, детей и внуков наших, будет служить для грядущих поко-лений страстным призывом к борьбе против империалистической реакции, неофашиз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ремя быстротечно. В стремительном потоке жизни проходят годы, десятилетия. Но непрехо-дяща память людская. Трагедия Хатыни, трагедии других деревень и городов никогда не будут забы-т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месте каждого из 26 сгоревших домов лежит первый венец сруба. Только теперь сделан он не из дерева — после сожжения Хатыни от бревен остались лишь обуглившиеся головешки,— а из бетона серопепельного цвет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нутри сруба — обелиск в виде печной трубы, увенчанный колоколом. На обелиске — мемори-альная плита с фамилиями и именами заживо сожженных хатынце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1320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0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200"/>
                            </p:stCondLst>
                            <p:childTnLst>
                              <p:par>
                                <p:cTn id="3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450"/>
                            </p:stCondLst>
                            <p:childTnLst>
                              <p:par>
                                <p:cTn id="3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9640" y="189000"/>
            <a:ext cx="86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Более 66 лет прошло с того страшного дня, когда исчезла с лица земли Хатынь, когда заживо сгорели ее мирные жители. За это время многострадальная белорусская земля не только полностью залечила кровавые раны, нанесенные ей оккупантами, но стала намного краше, богач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Хатынь, однако, не возродилась. Но она не забыта. Наоборот, сегодня ее знает весь мир. Двадцать шесть колоколов звонят над бывшей деревней. Звонят в любую пору года. Звонят ночью и днем. Звонят, напоминая о прошлом: о печах Майданека и Освенцима, ужасах Трост-енца и Бабьего Яра, пепелищах литовской деревни Пирчюпяй и чехос-ловацкой Лидице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350028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 довоенной Хатыни было 4 ко-лодца. Теперь на их месте мемори-альные знак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 бывших деревенских хат всегда открыты железобетонные калитки, которые словно ожидают своих тру-долюбивых, гостеприимных хозяев. Но они не вернутся сюда никогда.   Вместо них нескончаемым потоком идут и идут люди, чтобы поклониться праху погибших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410544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180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6900"/>
                            </p:stCondLst>
                            <p:childTnLst>
                              <p:par>
                                <p:cTn id="3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55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364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Слышали вы в Хатыни Траурный перезвон? Кровь от ужаса стынет, Только раздастся он. Кажется, ты в пустыне: Выжжено все дотла.       В этой военной Хатыни , Плачут колокола 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75280" y="1268280"/>
            <a:ext cx="4968720" cy="4891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9" presetSubtype="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епокоренный Челов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28796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 центре мемориального комплекса «Хатынь»  возвышается бронзовая скульптура Непокоренного Человека- человека, вынесшего на своих плечах все тяготы войны, вставшего из огня. Боль и гнев, скорбь и месть выражены на его лице. А руки, натруженные крестьянские руки, горестно и бережно держат тело замученного ребен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356000" y="907920"/>
            <a:ext cx="462456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14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и березы в память о погибших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ва миллиона 230 тысяч человек было уничтожено в Беларуси- погиб каждый четвертый ее житель( по уточненным данным- каждый третий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0384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анда Яскевич — одна из 149 сожженных жителей (единственная сохранившаяся фотография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43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29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Кладбище деревень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9280" y="890640"/>
            <a:ext cx="8713800" cy="596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614920" y="549360"/>
            <a:ext cx="3529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Колокола Хатын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 этот звон болит во мне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Перед симфонией печал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молчу и  плачу в этот миг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Как дети в пламени кричали!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 до сих пор не смолк их крик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Над белой тишиной  Хатын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колокола,  как голоса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тех,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что ушли  в огне и дыме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за небеса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«Я — Анна, Анна, Анна!»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здалека... «О, где ты, мама, мама?»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здалека..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Андрей Дементьев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651640" cy="4473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226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изитная карточка проектной иде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052640"/>
            <a:ext cx="822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11 «Б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полнитель проект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Голубятникова Ксения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уководитель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Ананьева Татьяна Михайловн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точники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Интернет, книги, рассказ дед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сещение мемориального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мплекса «Хатынь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од выполнения работы               Я побывала в мемориальном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мплексе «Хатынь» и услышал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рагическую историю этой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еревни, дополнила ее собранной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нформацией и воспоминаниями д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4103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Через века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Через года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О те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то уже не придет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никогда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Не плачь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В горле сдержите стоны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амяти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авших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удьте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Вечно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Хлебом и песней, мечтой и стихами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Жизнью просторно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ждой секундой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ждым дыханье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удьте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Люд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ка сердца стучаться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кой ценой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Завоевано счастье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жалуйста, 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есню свою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Отправляя в полет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6480" y="259920"/>
            <a:ext cx="4133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  тех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то  уже никогда не споет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Детям свои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асскажите о ни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Чтобы запомни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Детям детей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асскажите о ни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Чтобы тоже запомни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о все времен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Бессмертной земл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 мерцающим звездам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едя корабли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 погибших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стречайте трепетную весну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Люди земли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Убейте войну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рокляните войну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Люди зем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Мечту пронесите через го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И жизнью наполните!..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о о те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то уже не придет никог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Заклинаю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3236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.Рождественск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ой де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105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ой дедушка- Загорский Василий Михайлович. Во время войны был еще ребенком, и ему не пришлось воевать. Он все равно повидал ужасы войны. В деревне, в которой жила семья моего деда, проживали немцы. Мужчин сразу расстреливали, и поэтому моя прабабушка прятала своих сыновей в погребе. Однажды, когда немцы делали обход по деревне и искали мужчин, они заглянули в погреб, где находился мой дед. Немцы пустили очередь из автомата и ранили в ногу моего деда, но он терпел молча, боясь обнаружить себя. Немцы ушли, не найдя детей. Еще долго жил мой дед после этого…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4125960" cy="551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60280"/>
            <a:ext cx="4248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Осуществляя нацистскую политику геноцида и «выжженной земли», фашистские захватчики уничтожили в Белоруссии свыше 2 млн. 230 тыс. советских граждан. Оккупанты превратили в пепелища 209 городов и поселков городского типа, 9200 деревень, 10 тысяч колхозов, 92 совхоза, 316 машинно-тракторных   станций, 100 465 промышленных производственных зданий, 1200 тысяч сельских строений, в том числе 420 996 домов колхозников.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33840" y="333360"/>
            <a:ext cx="439272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икогда не будет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быто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95160" y="1030320"/>
            <a:ext cx="775368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00000" y="3500280"/>
            <a:ext cx="7272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2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марта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943 года фашисты уничтожили деревню Хатынь с ее жителя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В Белоруссии фашисты разорили 209 городов и городских поселков, 9200 сел и дере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т рук захватчиков погибло 2 230 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оветских гражда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икогда не будет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быто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5545440" cy="343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2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24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48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2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333360"/>
            <a:ext cx="82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В 54 КИЛОМЕТРАХ ОТ СТОЛИЦЫ СОВЕТСКОЙ БЕЛОРУССИИ, В ОДНОМ ИЗ КРАСИВЕЙШИХ УГОЛКОВ МИНЩИНЫ, КОТОРЫЙ, КАЖЕТСЯ, САМОЙ ПРИРОДОЙ СОТВОРЕН ДЛЯ ЖИЗНИ, РАДОСТИ И СЧАСТЬЯ ЛЮДЕЙ, КАК ПАМЯТНИК НЕПОКОРЕННОМУ НАРОДУ, КАК ВЕЧНАЯ СКОРБЬ О ТЕХ, КТО ПОГИБ В ГОДЫ ВЕЛИКОЙ ОТЕЧЕСТВЕННОЙ ВОЙНЫ, КАК СТРАСТНЫЙ ПРИЗЫВ К БОРЬБЕ ЗА СОХРАНЕНИЕ И УПРОЧЕНИЕ МИРА, ПОДНЯЛСЯ ИЗ БЕТОНА И ГРАНИТА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МЕМОРИАЛЬНЫЙ КОМПЛЕКС «ХАТЫНЬ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2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9280" y="26028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траурном митинге, посвященном открытию мемориального комплекса 5 июля 1969 года, выступил майор Советской Армии А. П. Желобкович. Детство его прошло в Хатыни. Счастливый случай помог ему избежать страшной уча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Я буду говорить от имени моей матери и отца, моих родных, друзей, близких. От имени тех, чей пепел лежит в этой земле... Это по ним сегодня, вчера и завтра звонят и будут звонить хатынские колокола. Моих сверстников, маленьких деревенских мальчишек, седобородых стариков и подростков, матерей и младенцев оплакивают он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781360"/>
            <a:ext cx="41767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братской могиле жителей деревни Венок памяти из белого мрамора со словами наказа мертвых к живым:   «Люди добрые, помните: любили мы жизнь, и Родину нашу, и Вас, дорогие. Мы сгорели живыми в огне. Наша просьба ко всем: пусть скорбь и печаль обернутся в мужество ваше и силу, чтобы смогли вы утвердить навечно мир и покой на земле. Чтобы отныне нигде и никогда в вихре пожаров жизнь не умирала!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035240" cy="3633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75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385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85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18900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 другой стороны Венка ответ живых погибшим: «Родные Вы наши. Головы в скорби великой склонив, стоим перед Вами. Вы не покорились фашистским убийцам в черные дни лихолетья. Вы приняли смерть, но пламя любви Вашей к Родине нашей советской вовек не погаснет. Память о Вас в народе бессмертна, как вечна земля и вечно солнце над нею!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1700280"/>
            <a:ext cx="5364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 было это так. 22 марта 1943 года неболь-шую белорусскую деревню Хатынь окружил карательный батальон войск СС особого назначения. Это «воинское» подразделение знало только одно — сеять смерть. Сейчас батальон готовился наброситься на очередную беззащитную и невинную жерт-в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Каратели, набившие руку на расправах с мирным населением, и на этот раз дейст-вовали быстро, хладнокровно, професси-ональ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олдатня врывалась в крестьянские хаты и выбрасывала людей на улиц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Жителей сгоняли в сарай. В нем станови-лось все теснее и теснее. Матери пытались успокоить детей, но, предчувствуя что-то страшное, сами не могли сдержать слез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076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670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26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52:18Z</dcterms:created>
  <dc:creator>Евгений</dc:creator>
  <dc:description/>
  <dc:language>en-US</dc:language>
  <cp:lastModifiedBy>Владимир</cp:lastModifiedBy>
  <dcterms:modified xsi:type="dcterms:W3CDTF">2011-10-29T12:51:35Z</dcterms:modified>
  <cp:revision>8</cp:revision>
  <dc:subject/>
  <dc:title>Хатынь- скорбная страница Великой Отечественной войны</dc:title>
</cp:coreProperties>
</file>