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E690-0951-406C-AA26-F0C8030F84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9A05-7179-4869-B00F-676AD9E030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519C-968F-4813-82B9-EAB92C333E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ABDA-8E8E-4C1D-A328-4825A0E2CD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EB2E-049F-4768-A4D9-CF3387E11A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909B-D69F-4B0E-8A36-9AD074929A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1AF3-83C2-436F-98E8-34B0FE633C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DFD9-5319-4AA5-9B0D-483B127272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D125-D226-4C10-BD12-87DC80E27C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4449-BB9D-400D-8929-BD1DC7DBDF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7DE1-CB50-46AC-B641-5D8D66D55D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A0C4-A51D-4F08-BD13-BD48297751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EAE8-A9C9-4CF1-80E1-E55C2B982E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662A-9800-4ED6-8AEA-46BE8CBB98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935D-E263-4BEA-A725-F7191B9060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0E9A-15B7-4C57-A607-77CA17E013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A427-485F-42FE-9FD5-9FF33F3050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FD22-356E-4717-B96A-58AD48CEBB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AEA6-1274-4044-9B10-9B95D0674B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6E2F9-9483-4A22-8E03-12DC16103A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352C-314A-4AD7-A62B-6CA3F70FBA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B810-B50E-4FC5-9CBF-EDBDC8F9CC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1A95-0E12-4FCC-98C1-323A986EFC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3887640" y="8685360"/>
            <a:ext cx="29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F177-5695-413C-B771-3C1042779C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DACD-47A1-4571-BE7D-54AE1FD30D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1FAA-F389-4FE2-9ADA-2AB69B4D70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BDE3-0B7C-4A75-9AF2-CCFD9393D2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69F6-8CAE-42AC-9529-A35439FC6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31B5-1190-4090-8907-E562C437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1422-8E54-481D-82BE-D0491AEC5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4640-0741-47D4-8178-DA7524218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B1BC-A104-439D-8561-FD9B3F0F0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4A11-1FE7-4E6C-9B85-13495015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5797-EA19-40D7-ACF4-48E8E8AC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FE9B-776B-4AE7-802E-88C7B839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06B68-1369-4B9B-9700-03D1D26C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7704-7CD7-4AD8-9700-4FC26BD1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95E0-7F6C-4E41-8AF6-5522953A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263F-70BD-4E23-949A-7E41F737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D29EA-F72A-4298-A1EA-DCB1A384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F479-63B3-4D7C-B462-38E6FDDA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4A9E6-9B9F-4843-AAB1-AFA0F629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1D51-C774-4C80-8421-AE7DF4ADD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3137-0298-4644-B1BB-65F448C5E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DA0C-5167-4E2B-9F56-4C4F527B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588C-4FE4-47EE-8054-68A7534B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B9F1-BAD0-416D-AC30-EA771A77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5B8D-7D74-45D6-8BCA-AE1CED1B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E7AC-1424-4E47-9AC5-6A1AA57A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2DEE-1650-4D7A-96FF-6EB1FD20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7BB9-1406-4C55-9D67-2422E5FD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8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74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963800" indent="-21744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963800" indent="-21744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963800" indent="-21744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F2CA-0079-4371-82FD-370D14FA81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66AC-972A-411E-99ED-CBF4F946BC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ru-RU" sz="1700" spc="-1" strike="noStrike">
                <a:solidFill>
                  <a:srgbClr val="7c1a28"/>
                </a:solidFill>
                <a:latin typeface="Arial"/>
              </a:rPr>
              <a:t>Февраль 2010, Моск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e8eef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28600" y="76320"/>
            <a:ext cx="765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ru-RU" sz="1800" spc="-1" strike="noStrike">
                <a:solidFill>
                  <a:srgbClr val="8e191b"/>
                </a:solidFill>
                <a:latin typeface="Times New Roman"/>
              </a:rPr>
              <a:t>МИНИСТЕРСТВО ПРОМЫШЛЕННОСТИ И ТОРГОВЛИ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РОССИЙСКОЙ</a:t>
            </a:r>
            <a:r>
              <a:rPr b="1" lang="ru-RU" sz="1800" spc="-1" strike="noStrike">
                <a:solidFill>
                  <a:srgbClr val="8e191b"/>
                </a:solidFill>
                <a:latin typeface="Times New Roman"/>
              </a:rPr>
              <a:t>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11"/>
          <p:cNvGraphicFramePr/>
          <p:nvPr/>
        </p:nvGraphicFramePr>
        <p:xfrm>
          <a:off x="7458120" y="0"/>
          <a:ext cx="1685880" cy="80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81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TextBox 10"/>
          <p:cNvSpPr/>
          <p:nvPr/>
        </p:nvSpPr>
        <p:spPr>
          <a:xfrm>
            <a:off x="701640" y="2187720"/>
            <a:ext cx="785016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e1823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«О совершенствовании государственной политики в области технического регулирования в целях модернизации и технологического развития эконом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аместитель Минис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омышленности и торгов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оссийской Федерации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В.Ю. Салам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71280" y="0"/>
            <a:ext cx="7358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11"/>
          <p:cNvGraphicFramePr/>
          <p:nvPr/>
        </p:nvGraphicFramePr>
        <p:xfrm>
          <a:off x="7470720" y="0"/>
          <a:ext cx="168588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07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52280" y="0"/>
            <a:ext cx="73580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8774640" y="649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a3f71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114480" y="73080"/>
            <a:ext cx="736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 Narrow"/>
              </a:rPr>
              <a:t>Этапы развития нормативной правовой базы в области технического регул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10"/>
          <p:cNvGraphicFramePr/>
          <p:nvPr/>
        </p:nvGraphicFramePr>
        <p:xfrm>
          <a:off x="500040" y="1089000"/>
          <a:ext cx="8105760" cy="557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1089000"/>
                    <a:ext cx="810576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71280" y="0"/>
            <a:ext cx="7358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11"/>
          <p:cNvGraphicFramePr/>
          <p:nvPr/>
        </p:nvGraphicFramePr>
        <p:xfrm>
          <a:off x="7458120" y="0"/>
          <a:ext cx="168588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81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95400" y="-19080"/>
            <a:ext cx="73580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 Narrow"/>
              </a:rPr>
              <a:t>Гармонизация систем технического регулирования в рамках формирования Единого Экономического Пространства (ЕЭП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8808480" y="649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a3f71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3"/>
          <p:cNvGraphicFramePr/>
          <p:nvPr/>
        </p:nvGraphicFramePr>
        <p:xfrm>
          <a:off x="355680" y="1000080"/>
          <a:ext cx="8483400" cy="581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5680" y="1000080"/>
                    <a:ext cx="8483400" cy="58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71280" y="0"/>
            <a:ext cx="7358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11"/>
          <p:cNvGraphicFramePr/>
          <p:nvPr/>
        </p:nvGraphicFramePr>
        <p:xfrm>
          <a:off x="7458120" y="0"/>
          <a:ext cx="168588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81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152280" y="0"/>
            <a:ext cx="73580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 Narrow"/>
              </a:rPr>
              <a:t>Реализация программы Правительства Российской Федерации по принятию технических регла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8775360" y="649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a3f71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3"/>
          <p:cNvGraphicFramePr/>
          <p:nvPr/>
        </p:nvGraphicFramePr>
        <p:xfrm>
          <a:off x="343080" y="876240"/>
          <a:ext cx="8781840" cy="600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3080" y="876240"/>
                    <a:ext cx="8781840" cy="600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71280" y="0"/>
            <a:ext cx="7358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11"/>
          <p:cNvGraphicFramePr/>
          <p:nvPr/>
        </p:nvGraphicFramePr>
        <p:xfrm>
          <a:off x="7486560" y="0"/>
          <a:ext cx="168588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8656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152280" y="0"/>
            <a:ext cx="73580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 Narrow"/>
              </a:rPr>
              <a:t>Программа разработки технических регла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8775360" y="649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a3f71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13"/>
          <p:cNvGraphicFramePr/>
          <p:nvPr/>
        </p:nvGraphicFramePr>
        <p:xfrm>
          <a:off x="660240" y="901800"/>
          <a:ext cx="7886880" cy="595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0240" y="901800"/>
                    <a:ext cx="7886880" cy="59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71280" y="0"/>
            <a:ext cx="7358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11"/>
          <p:cNvGraphicFramePr/>
          <p:nvPr/>
        </p:nvGraphicFramePr>
        <p:xfrm>
          <a:off x="7458120" y="0"/>
          <a:ext cx="168588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81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152280" y="0"/>
            <a:ext cx="73580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 Narrow"/>
              </a:rPr>
              <a:t>Реализация программы Правительства Российской Федерации по принятию технических регла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8775360" y="6491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a3f71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3"/>
          <p:cNvGraphicFramePr/>
          <p:nvPr/>
        </p:nvGraphicFramePr>
        <p:xfrm>
          <a:off x="324000" y="857160"/>
          <a:ext cx="8781840" cy="600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857160"/>
                    <a:ext cx="8781840" cy="600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ru-RU" sz="1700" spc="-1" strike="noStrike">
                <a:solidFill>
                  <a:srgbClr val="7c1a28"/>
                </a:solidFill>
                <a:latin typeface="Arial"/>
              </a:rPr>
              <a:t>Февраль 2010, Моск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e8eef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228600" y="76320"/>
            <a:ext cx="765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ru-RU" sz="1800" spc="-1" strike="noStrike">
                <a:solidFill>
                  <a:srgbClr val="8e191b"/>
                </a:solidFill>
                <a:latin typeface="Times New Roman"/>
              </a:rPr>
              <a:t>МИНИСТЕРСТВО ПРОМЫШЛЕННОСТИ И ТОРГОВЛИ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РОССИЙСКОЙ</a:t>
            </a:r>
            <a:r>
              <a:rPr b="1" lang="ru-RU" sz="1800" spc="-1" strike="noStrike">
                <a:solidFill>
                  <a:srgbClr val="8e191b"/>
                </a:solidFill>
                <a:latin typeface="Times New Roman"/>
              </a:rPr>
              <a:t>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Object 11"/>
          <p:cNvGraphicFramePr/>
          <p:nvPr/>
        </p:nvGraphicFramePr>
        <p:xfrm>
          <a:off x="7458120" y="0"/>
          <a:ext cx="1685880" cy="80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8120" y="0"/>
                    <a:ext cx="1685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Box 10"/>
          <p:cNvSpPr/>
          <p:nvPr/>
        </p:nvSpPr>
        <p:spPr>
          <a:xfrm>
            <a:off x="701640" y="3375000"/>
            <a:ext cx="78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 Black"/>
              </a:rPr>
              <a:t>Благодарю за в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20:12:38Z</dcterms:created>
  <dc:creator>vchugunova001</dc:creator>
  <dc:description/>
  <dc:language>en-US</dc:language>
  <cp:lastModifiedBy>GaynutdinovAK</cp:lastModifiedBy>
  <dcterms:modified xsi:type="dcterms:W3CDTF">2010-02-01T11:31:44Z</dcterms:modified>
  <cp:revision>856</cp:revision>
  <dc:subject/>
  <dc:title>Slide 1</dc:title>
</cp:coreProperties>
</file>