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25A9-D58B-4D63-9379-DA676DFDF4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15EC-B4DE-4F0B-98DC-3CDEDCC010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C714-9080-43D2-9EAD-B3FE37A588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4B8D-57DB-4B0D-AAC1-D9F2F4F05C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F8C1-F1EC-4346-A31D-C56610F071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DB68-8B25-4342-8AFA-8BA89E6B46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277D-EC5B-4E8E-9D8B-EB813CFEED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497E-2E08-4953-B68A-9CC7F8B94C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D899-4C33-4293-9A3E-63A587018A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9173-99AC-4D7C-966C-7CA8C871C3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CD8A-22BB-4AFC-949B-E3E628B500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1B38-E537-4B98-9678-3141BD7E08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A924-2B42-466F-8B71-567169090A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23B9-2474-4FBB-A648-DFCB9CBE8A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11CC-0684-46B4-B638-98841970F4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7969-DF40-4D2B-AE41-22253A46BC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7AC4-B8BA-4786-96D0-60C44AE90C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5717-997A-48F4-A0EA-FBFD9D1DA5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7201-B943-4225-A4D6-6716BE837F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921A-1EBB-4A71-8D22-649DD3CC2E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2F2B-010F-4356-B562-42BE4E19C5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D363-8048-4AF5-BF8D-5FFEB9243D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77A0-E143-471E-BFED-AF369A41E1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9EEB-FE09-4071-82AC-929E716CC2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CE2A-AFF9-4866-9974-322B758EBB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C50A-4BE4-4B71-BE8E-060C44C2DB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BE32-166F-453F-969C-2AFD7354E7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B02E-436F-4B30-84BB-B08BA40C6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F908-83B0-4E0A-8F85-EAC25E38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64BF-2CE1-4509-AF0A-585DD748F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86F5-7AE9-4170-8958-DB21CC03A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8D79-571B-4323-BE0A-C8D6F1977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3D03-0621-4578-9B0C-3D95130D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2B1B-4454-4C1B-BADD-73C38F04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FEB1-5B82-4B00-B2DD-A15209BB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9FD1-1815-40BE-9A04-2B3B5C40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032B-1681-45AC-98AE-E6C8959A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89E8-32C6-4531-A3C7-E16F37D1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3696-88F3-45E0-BFDE-8A11B8CD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7E55-E888-4385-A092-97A12648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19A2-4611-46AC-9E4C-623E6793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7253-3D61-43CB-8410-294C89AC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5532-7D05-4CB4-9FF0-F09CDBDC4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0799-0DCD-4C24-9AF5-C9C228236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1DC4-83FF-4379-A40F-1F1670A2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7A55-E113-4AF5-9660-313C903C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C291-55FE-4F9F-B6AD-F732AFF0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6F09-6248-49BA-9AA4-B4914E57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36CB-5180-4174-9410-78255AAD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765E-9164-4748-8E31-69B517F5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5AC1-8C31-456D-8435-C037CEB2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8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74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744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963800" indent="-21744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963800" indent="-21744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3805-7F07-4886-A620-116AB0BDC6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386F-2BC5-4092-B4D1-9161F84D07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700" spc="-1" strike="noStrike">
                <a:solidFill>
                  <a:srgbClr val="7c1a28"/>
                </a:solidFill>
                <a:latin typeface="Arial"/>
              </a:rPr>
              <a:t>Февраль 2010, Моск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e8eef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28600" y="76320"/>
            <a:ext cx="765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800" spc="-1" strike="noStrike">
                <a:solidFill>
                  <a:srgbClr val="8e191b"/>
                </a:solidFill>
                <a:latin typeface="Times New Roman"/>
              </a:rPr>
              <a:t>МИНИСТЕРСТВО ПРОМЫШЛЕННОСТИ И ТОРГОВЛИ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РОССИЙСКОЙ</a:t>
            </a:r>
            <a:r>
              <a:rPr b="1" lang="ru-RU" sz="1800" spc="-1" strike="noStrike">
                <a:solidFill>
                  <a:srgbClr val="8e191b"/>
                </a:solidFill>
                <a:latin typeface="Times New Roman"/>
              </a:rPr>
              <a:t>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Box 10"/>
          <p:cNvSpPr/>
          <p:nvPr/>
        </p:nvSpPr>
        <p:spPr>
          <a:xfrm>
            <a:off x="701640" y="2187720"/>
            <a:ext cx="78501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e182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«О совершенствовании государственной политики в области технического регулирования в целях модернизации и технологического развития эконом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аместитель Минис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мышленности и торгов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оссийской Федерации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.Ю. Салам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11"/>
          <p:cNvGraphicFramePr/>
          <p:nvPr/>
        </p:nvGraphicFramePr>
        <p:xfrm>
          <a:off x="747072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07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52280" y="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877464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a3f71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114480" y="73080"/>
            <a:ext cx="736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Этапы развития нормативной правовой базы в области технического регул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10"/>
          <p:cNvGraphicFramePr/>
          <p:nvPr/>
        </p:nvGraphicFramePr>
        <p:xfrm>
          <a:off x="500040" y="1089000"/>
          <a:ext cx="8105760" cy="557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1089000"/>
                    <a:ext cx="810576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95400" y="-1908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Гармонизация систем технического регулирования в рамках формирования Единого Экономического Пространства (ЕЭП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880848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3f71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355680" y="1000080"/>
          <a:ext cx="8483400" cy="581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5680" y="1000080"/>
                    <a:ext cx="8483400" cy="58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152280" y="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Реализация программы Правительства Российской Федерации по принятию технических регла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877536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3f71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3"/>
          <p:cNvGraphicFramePr/>
          <p:nvPr/>
        </p:nvGraphicFramePr>
        <p:xfrm>
          <a:off x="343080" y="876240"/>
          <a:ext cx="8781840" cy="600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3080" y="876240"/>
                    <a:ext cx="8781840" cy="60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11"/>
          <p:cNvGraphicFramePr/>
          <p:nvPr/>
        </p:nvGraphicFramePr>
        <p:xfrm>
          <a:off x="748656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8656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152280" y="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Программа разработки технических регла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877536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3f71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13"/>
          <p:cNvGraphicFramePr/>
          <p:nvPr/>
        </p:nvGraphicFramePr>
        <p:xfrm>
          <a:off x="660240" y="901800"/>
          <a:ext cx="7886880" cy="595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0240" y="901800"/>
                    <a:ext cx="7886880" cy="59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152280" y="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Реализация программы Правительства Российской Федерации по принятию технических регла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877536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3f71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324000" y="857160"/>
          <a:ext cx="8781840" cy="600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857160"/>
                    <a:ext cx="8781840" cy="60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700" spc="-1" strike="noStrike">
                <a:solidFill>
                  <a:srgbClr val="7c1a28"/>
                </a:solidFill>
                <a:latin typeface="Arial"/>
              </a:rPr>
              <a:t>Февраль 2010, Моск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e8eef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228600" y="76320"/>
            <a:ext cx="765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800" spc="-1" strike="noStrike">
                <a:solidFill>
                  <a:srgbClr val="8e191b"/>
                </a:solidFill>
                <a:latin typeface="Times New Roman"/>
              </a:rPr>
              <a:t>МИНИСТЕРСТВО ПРОМЫШЛЕННОСТИ И ТОРГОВЛИ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РОССИЙСКОЙ</a:t>
            </a:r>
            <a:r>
              <a:rPr b="1" lang="ru-RU" sz="1800" spc="-1" strike="noStrike">
                <a:solidFill>
                  <a:srgbClr val="8e191b"/>
                </a:solidFill>
                <a:latin typeface="Times New Roman"/>
              </a:rPr>
              <a:t>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Box 10"/>
          <p:cNvSpPr/>
          <p:nvPr/>
        </p:nvSpPr>
        <p:spPr>
          <a:xfrm>
            <a:off x="701640" y="3375000"/>
            <a:ext cx="78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 Black"/>
              </a:rPr>
              <a:t>Благодарю за 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20:12:38Z</dcterms:created>
  <dc:creator>vchugunova001</dc:creator>
  <dc:description/>
  <dc:language>en-US</dc:language>
  <cp:lastModifiedBy>GaynutdinovAK</cp:lastModifiedBy>
  <dcterms:modified xsi:type="dcterms:W3CDTF">2010-02-01T11:31:44Z</dcterms:modified>
  <cp:revision>856</cp:revision>
  <dc:subject/>
  <dc:title>Slide 1</dc:title>
</cp:coreProperties>
</file>