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7B6B-FD71-43F5-A539-17DAA8C8FB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E9D8-DBC8-4AA5-910D-DEA17B6B08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B029-1AF6-4DA7-B43D-0145A1E460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62BF-89A9-4D84-B809-85B8A77BA5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D7E2-D2F2-4149-AE61-6F49DA96E7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1C3D-9F16-493E-934C-B040C9D8B7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3FDE-569C-40B7-9F69-AE50D8F6EB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D00C-16E0-420F-AE48-CD5CADF0AB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0D92-1AC7-4E30-ACEE-E518B1C35E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8CCB-327F-4570-8E9C-CC16B887B2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6542-66ED-477B-957F-DE50B60682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B715-51C4-4929-8897-364A21232F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1ADC-F878-4582-A2C0-A1215CD82B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7690-612D-41AF-9B1C-B18E72AC39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8D51-1C37-4E0C-805E-282E08FD4E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66AA-5DC7-4B2B-85C2-FAB4B7304B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06C7-14F7-4DEB-8E79-7089599BDC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C200-4ADC-4EB9-A0B5-6D76E7EF01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FF9A-505C-4520-AD66-BEE70433DC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B1BB-A911-44D6-B6D6-F422A40F59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0F5C-A35B-4310-8B26-3B77CE2C13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2EFF-DFB7-41FB-8591-37AB15E1A7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62CC-0A59-45A3-A5FD-277E434AF6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E650-2FD2-4AB1-817F-BB7BDFFA2C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4927-3959-4193-B83E-273EF27F66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A714-38B1-4F09-A24D-66F5195874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C6F8-70CA-491C-BC23-29AB333BD6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1CCB-7F75-463E-ACC6-B7039B4F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B5E8-5D8B-41A5-A078-D7AD3F7C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FA4E-E769-46C6-8958-B400A163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4C38-5299-4323-86E1-4D03BF12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4656-0C42-4BB0-8236-E92E9901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F55E-742A-465C-B81B-ED07530E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AEB8-210E-4C0D-8404-A7836838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4626-EB22-4940-8AFC-F5468F60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226D-F0AC-4C0A-B350-F16E3F33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53E3-F644-41A8-AC37-7612C81B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1E3D-090B-405E-902A-D389882B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A268-8F23-401E-A46F-F7923FB9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E323-90BD-4AA8-91BB-C6ABA6DF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08D2-3999-42D8-857B-4AEFD160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B2A9-6635-4EA4-BFA5-E738717C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6108-DB59-43FB-B701-79DDCAA2E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9AE3-ED21-4FEE-9A64-A5158F51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DDF0-59FB-411B-A467-07F0320B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97FE-A6FA-4CA7-B152-AFB06401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4903-6BF2-4C1F-861C-FA8ECE94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DC88-AE5A-41D7-81BE-35E48566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3781-C90B-44F5-9A38-6B6B3A57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5465-E2F4-4AAF-B88C-2ABBB853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3180-0A38-4DFF-A6A2-39173958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8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BE9C-0FB1-4BE7-9B86-2A632715D2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611D-3AAA-44C5-8B2B-E897FB4C02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7c1a28"/>
                </a:solidFill>
                <a:latin typeface="Arial"/>
              </a:rPr>
              <a:t>Февраль 2010, Моск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e8eef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28600" y="76320"/>
            <a:ext cx="765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МИНИСТЕРСТВО ПРОМЫШЛЕННОСТИ И ТОРГОВЛИ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РОССИЙСКОЙ</a:t>
            </a: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Box 10"/>
          <p:cNvSpPr/>
          <p:nvPr/>
        </p:nvSpPr>
        <p:spPr>
          <a:xfrm>
            <a:off x="701640" y="2187720"/>
            <a:ext cx="78501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e182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«О совершенствовании государственной политики в области технического регулирования в целях модернизации и технологического развития эконом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аместитель Мини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мышленности и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оссийской Федерации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.Ю. Салам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1"/>
          <p:cNvGraphicFramePr/>
          <p:nvPr/>
        </p:nvGraphicFramePr>
        <p:xfrm>
          <a:off x="74707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07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877464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a3f71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114480" y="73080"/>
            <a:ext cx="736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Этапы развития нормативной правовой базы в области технического регул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0"/>
          <p:cNvGraphicFramePr/>
          <p:nvPr/>
        </p:nvGraphicFramePr>
        <p:xfrm>
          <a:off x="500040" y="1089000"/>
          <a:ext cx="8105760" cy="557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1089000"/>
                    <a:ext cx="8105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95400" y="-1908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Гармонизация систем технического регулирования в рамках формирования Единого Экономического Пространства (ЕЭ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880848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355680" y="1000080"/>
          <a:ext cx="8483400" cy="581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5680" y="1000080"/>
                    <a:ext cx="848340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Реализация программы Правительства Российской Федерации по принятию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343080" y="876240"/>
          <a:ext cx="8781840" cy="600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080" y="876240"/>
                    <a:ext cx="878184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11"/>
          <p:cNvGraphicFramePr/>
          <p:nvPr/>
        </p:nvGraphicFramePr>
        <p:xfrm>
          <a:off x="748656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8656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Программа разработки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13"/>
          <p:cNvGraphicFramePr/>
          <p:nvPr/>
        </p:nvGraphicFramePr>
        <p:xfrm>
          <a:off x="660240" y="901800"/>
          <a:ext cx="7886880" cy="595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0240" y="901800"/>
                    <a:ext cx="788688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Реализация программы Правительства Российской Федерации по принятию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324000" y="857160"/>
          <a:ext cx="8781840" cy="600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857160"/>
                    <a:ext cx="878184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7c1a28"/>
                </a:solidFill>
                <a:latin typeface="Arial"/>
              </a:rPr>
              <a:t>Февраль 2010, Моск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e8eef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228600" y="76320"/>
            <a:ext cx="765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МИНИСТЕРСТВО ПРОМЫШЛЕННОСТИ И ТОРГОВЛИ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РОССИЙСКОЙ</a:t>
            </a: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Box 10"/>
          <p:cNvSpPr/>
          <p:nvPr/>
        </p:nvSpPr>
        <p:spPr>
          <a:xfrm>
            <a:off x="701640" y="337500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 Black"/>
              </a:rPr>
              <a:t>Благодарю за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20:12:38Z</dcterms:created>
  <dc:creator>vchugunova001</dc:creator>
  <dc:description/>
  <dc:language>en-US</dc:language>
  <cp:lastModifiedBy>GaynutdinovAK</cp:lastModifiedBy>
  <dcterms:modified xsi:type="dcterms:W3CDTF">2010-02-01T11:31:44Z</dcterms:modified>
  <cp:revision>856</cp:revision>
  <dc:subject/>
  <dc:title>Slide 1</dc:title>
</cp:coreProperties>
</file>