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6F32-A776-4128-8762-5E81DC6F9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C5B5-9F49-4667-8378-DB451E3F72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0D56-0EF2-4A85-9805-56934781A5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A13F-AE35-45D2-8DBE-4A380C8D40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17ED-BF57-40B2-BB26-FD46A6EA40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1AC5-0AA7-4416-8D4A-1328BAD033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CE6D-52F7-4C52-AF4F-46C1E1D034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FE80-9884-4BF7-A129-245DED8D50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F1B7-9396-4E63-BE94-6FC5BC09DD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8663-E654-422C-8672-1AF40C14BE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76E9-550D-4572-A363-FFE2C49420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ED37-5C92-4FEB-80D6-28BB717904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C714-FDE3-41D7-9B3C-6BDD40F084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7D3E-B02F-434F-9BDE-F54787821C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6B64-99D7-42AD-AD94-1899BEC224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F489-DA9A-4599-8BE5-E46615E4BD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6AB1-23B6-4701-AAEB-EE8FE9FC31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7488-B367-4BF4-8DE5-479D05EE4F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10AA-66B7-4BB1-85FF-B8C9C9461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AF2B-5F24-4F45-8E8F-C5753B6222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28C8-21A5-43B6-9BBE-7946C50589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6010-7375-40B8-B36A-330708C5C6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885B-2B03-4832-9E8F-D46184032E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C30F-FA75-4C03-BF06-78970A7F57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68E8-68A2-4E9F-89AD-D62F2BD749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1846-844F-450E-A20D-013D0DD727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6469-C564-4CD8-B5FF-9B95D9F622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89A-2513-4C3A-84E8-B9BDC0DA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B9C-EABE-4077-95F0-BDA89B96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A2A-B763-4689-8929-E97B1E82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F60-6768-46FB-B4C6-281C1CF8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47D4-56C1-4522-963F-0A4A3F84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D7A7-5EE0-4AE5-954F-AD626D5C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9325-7292-4AB2-86C3-01E643F9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8279-0A3A-4402-A185-7F873EB6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DE49-83CA-40DF-B743-C31E5657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5308-428C-4C7B-993D-A1E8CC7C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FAFD-C921-423B-ADF3-A21FF340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AA4-721A-4DB6-937B-C1D6C904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BECB-8EFA-4857-86F0-9C691BF9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9C4B-E62B-4504-AAC8-802F0193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53F1-05DB-4675-BEEF-F286AD46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BBC5-9731-4E10-96D2-36BF9D3C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A0AC-574F-4EA9-901F-1621E9F7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BF3-E8A1-4A0B-A160-3AC1C94B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0B8-85ED-4CB7-B984-84600E0C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4FD-051F-487A-A0ED-AE2F2438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BEC-739C-446D-9528-5AECC00C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11F-D898-4377-8D78-33C0B723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1E2-17B1-479A-A127-4AE33EBE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727-D17E-4E09-A8D1-4FE6DB73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8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2D15-E898-4B61-808D-76F9A7FC6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7603-B473-4E42-AB4E-A348276E15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10"/>
          <p:cNvSpPr/>
          <p:nvPr/>
        </p:nvSpPr>
        <p:spPr>
          <a:xfrm>
            <a:off x="701640" y="2187720"/>
            <a:ext cx="78501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182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О совершенствовании государственной политики в области технического регулирования в целях модернизации и технологического развития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меститель Мин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мышленности и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сийской Федераци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.Ю. Салам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1"/>
          <p:cNvGraphicFramePr/>
          <p:nvPr/>
        </p:nvGraphicFramePr>
        <p:xfrm>
          <a:off x="74707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07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877464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3f71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480" y="73080"/>
            <a:ext cx="73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Этапы развития нормативной правовой базы в области технического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0"/>
          <p:cNvGraphicFramePr/>
          <p:nvPr/>
        </p:nvGraphicFramePr>
        <p:xfrm>
          <a:off x="500040" y="1089000"/>
          <a:ext cx="8105760" cy="557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089000"/>
                    <a:ext cx="8105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95400" y="-1908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Гармонизация систем технического регулирования в рамках формирования Единого Экономического Пространства (ЕЭ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80848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355680" y="1000080"/>
          <a:ext cx="8483400" cy="581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1000080"/>
                    <a:ext cx="848340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343080" y="87624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87624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748656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656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Программа разработки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3"/>
          <p:cNvGraphicFramePr/>
          <p:nvPr/>
        </p:nvGraphicFramePr>
        <p:xfrm>
          <a:off x="660240" y="901800"/>
          <a:ext cx="7886880" cy="595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0240" y="901800"/>
                    <a:ext cx="788688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324000" y="85716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85716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10"/>
          <p:cNvSpPr/>
          <p:nvPr/>
        </p:nvSpPr>
        <p:spPr>
          <a:xfrm>
            <a:off x="701640" y="337500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 Black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20:12:38Z</dcterms:created>
  <dc:creator>vchugunova001</dc:creator>
  <dc:description/>
  <dc:language>en-US</dc:language>
  <cp:lastModifiedBy>GaynutdinovAK</cp:lastModifiedBy>
  <dcterms:modified xsi:type="dcterms:W3CDTF">2010-02-01T11:31:44Z</dcterms:modified>
  <cp:revision>856</cp:revision>
  <dc:subject/>
  <dc:title>Slide 1</dc:title>
</cp:coreProperties>
</file>