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F4DC-45B7-48DF-B948-654C08F14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07A4-743D-4A84-84A1-422A334BF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E4B4-AB91-4996-B6F2-AD636DBFF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877E-86B0-4477-AD4C-4CF36D96C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7AD47-1364-4FBD-875F-64059ACF2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B567E-BAF2-4C93-BF99-87BAACE51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FCB0F-2571-4CAF-9444-2EF4096D8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951EC-86B6-476F-84BD-F31865088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FC59C-DA63-43AD-A33B-62A6E8BF2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38C0F-77A7-4F55-B704-1E57E00D7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F4082-3E79-4C7B-8CE1-BBBC6756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BD24-8E87-42E6-98C5-E32D7F1E4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3E6F1-51FC-4E92-9870-3DD4F249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5DB7F-F66D-44AE-985C-7BD7EC56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E1752-77C6-4DEF-BD65-5DDA15A15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5342D-C162-42DF-87CC-9ECCAAAD1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008B4-5A2E-41BC-AC33-219CC9F3F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AE8C-D661-4414-AD73-59AC2EDAB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845F-D301-4B89-8E09-2A9DF9F4B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FFE1-EAEE-4AB0-B7FD-08E617140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5E0E-6B38-44BB-9183-5484BE8FD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7376-5776-47EC-B8EA-4BE16785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A9F9-7126-43C3-809B-140B99EC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0469-4CE3-4AA8-8376-5583EBA2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E6B0F-3B54-4CCF-9E75-7CC0A9AFF726}" type="slidenum">
              <a:rPr b="0" lang="ru-RU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CCF8F-BB60-4B72-A5A5-5DFFDBD0ADFF}" type="slidenum">
              <a:rPr b="0" lang="ru-RU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213372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Скорбные страницы истории на Родине деда: Хатынская трагедия на Белорусской земле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rcRect l="0" t="0" r="0" b="1645"/>
          <a:stretch/>
        </p:blipFill>
        <p:spPr>
          <a:xfrm>
            <a:off x="2916360" y="260280"/>
            <a:ext cx="3744720" cy="4608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179280" y="11160"/>
            <a:ext cx="316872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В сером сумраке скупо переговаривались мужчины,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Поближе друг к дружке жалась родня.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Скупо пробивался сквозь незаконопаченные щели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Веселый свет вешнего дня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Люди еще в избавление верили,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Хоть тревога не покидала сердец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Но когда услыхали, как заколачивают щели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И запахло бензином ,  стало ясно – это конец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Каратели бензином последнюю свечку надежд затушили,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Сквозь щели пламя стало втыкать кривые ножи,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И бабы заголосили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: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«А, детки, а вы ж  еще не успели пожить,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cc"/>
                </a:solidFill>
                <a:latin typeface="Arial"/>
              </a:rPr>
              <a:t>А ваши ж ноженьки не успели находиться,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cc"/>
                </a:solidFill>
                <a:latin typeface="Arial"/>
              </a:rPr>
              <a:t>А ваши ж рученьки не успели натрудиться,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cc"/>
                </a:solidFill>
                <a:latin typeface="Arial"/>
              </a:rPr>
              <a:t>А ваши ж глазоньки не успели наглядеться,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cc"/>
                </a:solidFill>
                <a:latin typeface="Arial"/>
              </a:rPr>
              <a:t>А вы ж внуками не успели порадовать нас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cc"/>
                </a:solidFill>
                <a:latin typeface="Arial"/>
              </a:rPr>
              <a:t>Солнышки наши, кровинушки наши,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cc"/>
                </a:solidFill>
                <a:latin typeface="Arial"/>
              </a:rPr>
              <a:t>Детки, за что ж они вас?»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 тогда вскинули мужчины кулаки в бессилье,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 выдохнули хрипло, как один человек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«Солнцем полдневным, небом    синим,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аждой звездой вечерней, каждой рассветной росинкой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На вашей могиле колом осиновым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ас, убийц, проклинаем навек»…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877080" y="115920"/>
            <a:ext cx="24843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Бревна уже превращались в уголь,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Нестерпимым жаром дышало из каждого угла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Над головами гуляла огненная вьюга,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Крепчала, разрасталась, мела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Уже не искры, а снопы адского пламени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Обрушились со стрехи,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И люди от них отбивались руками голыми,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И заскворчали на плечах кожухи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От немого крика обвалилась пуня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Грохнули  оземь двери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И, упав, как багровый куль холодный снег искала слепая бабуля,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А нашла только горсть раскаленных пуль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Строчили пулеметы по огню, по стонам, по плачу,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Редел и падал печальный охрипший крик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 вот остался только тоненький писк ребячий,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Но и он покачнулся и сник…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59280" y="5030640"/>
            <a:ext cx="676908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тогда скинуло винтовки черношинельное                                                              войско,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ся округа была безмолвием оглушена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ровь остывала, хаты догорали,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Над селом, как над  погостом стояла мертвая тишина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 каратели смотрели глазами пустыми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ак ошалелый кот вылизывал тлеющий мех,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ак лежал, не тая, в Хатыни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расный снег</a:t>
            </a:r>
            <a:r>
              <a:rPr b="1" lang="en-US" sz="1200" spc="-1" strike="noStrike">
                <a:solidFill>
                  <a:srgbClr val="eaeaea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203640" y="260280"/>
            <a:ext cx="30970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>
                        <a:alpha val="97254"/>
                      </a:srgbClr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расный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>
                      <a:alpha val="97254"/>
                    </a:srgbClr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>
                        <a:alpha val="97254"/>
                      </a:srgbClr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белый снег Хатыни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>
                      <a:alpha val="97254"/>
                    </a:srgbClr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slow">
    <p:newsflash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5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6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65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70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75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80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85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90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95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2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5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2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2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15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23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23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25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23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30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23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35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23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23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45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23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23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55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232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600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232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65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70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75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800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8500"/>
                            </p:stCondLst>
                            <p:childTnLst>
                              <p:par>
                                <p:cTn id="2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900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9500"/>
                            </p:stCondLst>
                            <p:childTnLst>
                              <p:par>
                                <p:cTn id="2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500"/>
                            </p:stCondLst>
                            <p:childTnLst>
                              <p:par>
                                <p:cTn id="2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100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150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200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2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25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2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3000"/>
                            </p:stCondLst>
                            <p:childTnLst>
                              <p:par>
                                <p:cTn id="2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2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3500"/>
                            </p:stCondLst>
                            <p:childTnLst>
                              <p:par>
                                <p:cTn id="2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23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4000"/>
                            </p:stCondLst>
                            <p:childTnLst>
                              <p:par>
                                <p:cTn id="2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23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4500"/>
                            </p:stCondLst>
                            <p:childTnLst>
                              <p:par>
                                <p:cTn id="2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5500"/>
                            </p:stCondLst>
                            <p:childTnLst>
                              <p:par>
                                <p:cTn id="3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65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7500"/>
                            </p:stCondLst>
                            <p:childTnLst>
                              <p:par>
                                <p:cTn id="3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8500"/>
                            </p:stCondLst>
                            <p:childTnLst>
                              <p:par>
                                <p:cTn id="3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9500"/>
                            </p:stCondLst>
                            <p:childTnLst>
                              <p:par>
                                <p:cTn id="3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30500"/>
                            </p:stCondLst>
                            <p:childTnLst>
                              <p:par>
                                <p:cTn id="3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1500"/>
                            </p:stCondLst>
                            <p:childTnLst>
                              <p:par>
                                <p:cTn id="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6048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Бывшая деревенская улица выложена серыми, под цвет пепла, железобетонными плитами. Идут и идут по ней люди, чтобы поклониться памяти тех, кто не покорился, не стал перед врагом на колени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Мемориал «Хатынь» служит для нас, детей и внуков наших, будет служить для грядущих поко-лений страстным призывом к борьбе против империалистической реакции, неофашизм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Время быстротечно. В стремительном потоке жизни проходят годы, десятилетия. Но непрехо-дяща память людская. Трагедия Хатыни, трагедии других деревень и городов никогда не будут забы-ты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На месте каждого из 26 сгоревших домов лежит первый венец сруба. Только теперь сделан он не из дерева — после сожжения Хатыни от бревен остались лишь обуглившиеся головешки,— а из бетона серопепельного цвет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Внутри сруба — обелиск в виде печной трубы, увенчанный колоколом. На обелиске — мемори-альная плита с фамилиями и именами заживо сожженных хатынцев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6012000" y="907920"/>
            <a:ext cx="3132000" cy="51134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8400"/>
                            </p:stCondLst>
                            <p:childTnLst>
                              <p:par>
                                <p:cTn id="33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6200"/>
                            </p:stCondLst>
                            <p:childTnLst>
                              <p:par>
                                <p:cTn id="34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5450"/>
                            </p:stCondLst>
                            <p:childTnLst>
                              <p:par>
                                <p:cTn id="35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539640" y="189000"/>
            <a:ext cx="860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Более 66 лет прошло с того страшного дня, когда исчезла с лица земли Хатынь, когда заживо сгорели ее мирные жители. За это время многострадальная белорусская земля не только полностью залечила кровавые раны, нанесенные ей оккупантами, но стала намного краше, богаче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Хатынь, однако, не возродилась. Но она не забыта. Наоборот, сегодня ее знает весь мир. Двадцать шесть колоколов звонят над бывшей деревней. Звонят в любую пору года. Звонят ночью и днем. Звонят, напоминая о прошлом: о печах Майданека и Освенцима, ужасах Трост-енца и Бабьего Яра, пепелищах литовской деревни Пирчюпяй и чехос-ловацкой Лидице..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50920" y="3500280"/>
            <a:ext cx="4537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В довоенной Хатыни было 4 ко-лодца. Теперь на их месте мемори-альные знаки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У бывших деревенских хат всегда открыты железобетонные калитки, которые словно ожидают своих тру-долюбивых, гостеприимных хозяев. Но они не вернутся сюда никогда.   Вместо них нескончаемым потоком идут и идут люди, чтобы поклониться праху погибших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4859280" y="3141720"/>
            <a:ext cx="4105440" cy="37162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1800"/>
                            </p:stCondLst>
                            <p:childTnLst>
                              <p:par>
                                <p:cTn id="37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26900"/>
                            </p:stCondLst>
                            <p:childTnLst>
                              <p:par>
                                <p:cTn id="37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30550"/>
                            </p:stCondLst>
                            <p:childTnLst>
                              <p:par>
                                <p:cTn id="38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50920" y="3645000"/>
            <a:ext cx="3456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Слышали вы в Хатыни Траурный перезвон? Кровь от ужаса стынет, Только раздастся он. Кажется, ты в пустыне: Выжжено все дотла.       В этой военной Хатыни , Плачут колокола …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4175280" y="1268280"/>
            <a:ext cx="4968720" cy="48913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4067280" cy="30513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19" presetSubtype="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136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Непокоренный Человек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-360" y="1125360"/>
            <a:ext cx="4287960" cy="507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В центре мемориального комплекса «Хатынь»  возвышается бронзовая скульптура Непокоренного Человека- человека, вынесшего на своих плечах все тяготы войны, вставшего из огня. Боль и гнев, скорбь и месть выражены на его лице. А руки, натруженные крестьянские руки, горестно и бережно держат тело замученного ребенка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4356000" y="907920"/>
            <a:ext cx="4624560" cy="59500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1486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Три березы в память о погибших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40370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Два миллиона 230 тысяч человек было уничтожено в Беларуси- погиб каждый четвертый ее житель( по уточненным данным- каждый третий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03840" cy="60213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Ванда Яскевич — одна из 149 сожженных жителей (единственная сохранившаяся фотография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2411280" y="1268280"/>
            <a:ext cx="4324320" cy="55897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929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«Кладбище деревень»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179280" y="890640"/>
            <a:ext cx="8713800" cy="59673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5614920" y="549360"/>
            <a:ext cx="35290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eaeaea"/>
                </a:solidFill>
                <a:latin typeface="Arial"/>
              </a:rPr>
              <a:t>Колокола Хатыни</a:t>
            </a:r>
            <a:endParaRPr b="0" lang="en-US" sz="19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cc00"/>
                </a:solidFill>
                <a:latin typeface="Arial"/>
              </a:rPr>
              <a:t>И этот звон болит во мне.</a:t>
            </a:r>
            <a:endParaRPr b="0" lang="en-US" sz="19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cc00"/>
                </a:solidFill>
                <a:latin typeface="Arial"/>
              </a:rPr>
              <a:t>Перед симфонией печали</a:t>
            </a:r>
            <a:endParaRPr b="0" lang="en-US" sz="19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cc00"/>
                </a:solidFill>
                <a:latin typeface="Arial"/>
              </a:rPr>
              <a:t>молчу и  плачу в этот миг.</a:t>
            </a:r>
            <a:endParaRPr b="0" lang="en-US" sz="19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cc00"/>
                </a:solidFill>
                <a:latin typeface="Arial"/>
              </a:rPr>
              <a:t>Как дети в пламени кричали!</a:t>
            </a:r>
            <a:endParaRPr b="0" lang="en-US" sz="19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cc00"/>
                </a:solidFill>
                <a:latin typeface="Arial"/>
              </a:rPr>
              <a:t>И до сих пор не смолк их крик.</a:t>
            </a:r>
            <a:endParaRPr b="0" lang="en-US" sz="19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cc00"/>
                </a:solidFill>
                <a:latin typeface="Arial"/>
              </a:rPr>
              <a:t>Над белой тишиной  Хатыни</a:t>
            </a:r>
            <a:endParaRPr b="0" lang="en-US" sz="19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cc00"/>
                </a:solidFill>
                <a:latin typeface="Arial"/>
              </a:rPr>
              <a:t>колокола,  как голоса</a:t>
            </a:r>
            <a:endParaRPr b="0" lang="en-US" sz="19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cc00"/>
                </a:solidFill>
                <a:latin typeface="Arial"/>
              </a:rPr>
              <a:t>тех,</a:t>
            </a:r>
            <a:endParaRPr b="0" lang="en-US" sz="19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cc00"/>
                </a:solidFill>
                <a:latin typeface="Arial"/>
              </a:rPr>
              <a:t>что ушли  в огне и дыме</a:t>
            </a:r>
            <a:endParaRPr b="0" lang="en-US" sz="19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cc00"/>
                </a:solidFill>
                <a:latin typeface="Arial"/>
              </a:rPr>
              <a:t>за небеса.</a:t>
            </a:r>
            <a:endParaRPr b="0" lang="en-US" sz="19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cc00"/>
                </a:solidFill>
                <a:latin typeface="Arial"/>
              </a:rPr>
              <a:t>«Я — Анна, Анна, Анна!»</a:t>
            </a:r>
            <a:endParaRPr b="0" lang="en-US" sz="19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cc00"/>
                </a:solidFill>
                <a:latin typeface="Arial"/>
              </a:rPr>
              <a:t>издалека... «О, где ты, мама, мама?»</a:t>
            </a:r>
            <a:endParaRPr b="0" lang="en-US" sz="19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cc00"/>
                </a:solidFill>
                <a:latin typeface="Arial"/>
              </a:rPr>
              <a:t>издалека...</a:t>
            </a:r>
            <a:endParaRPr b="0" lang="en-US" sz="19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eaeaea"/>
                </a:solidFill>
                <a:latin typeface="Arial"/>
              </a:rPr>
              <a:t>             </a:t>
            </a:r>
            <a:r>
              <a:rPr b="1" lang="en-US" sz="1900" spc="-1" strike="noStrike">
                <a:solidFill>
                  <a:srgbClr val="eaeaea"/>
                </a:solidFill>
                <a:latin typeface="Arial"/>
              </a:rPr>
              <a:t>Андрей Дементьев</a:t>
            </a:r>
            <a:endParaRPr b="0" lang="en-US" sz="19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5651640" cy="44737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2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2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2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2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25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22636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Визитная карточка проектной идеи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5400" y="1052640"/>
            <a:ext cx="822636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Класс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 11 «Б»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Исполнитель проекта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 Голубятникова Ксения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Руководитель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        Ананьева Татьяна Михайловн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Источники 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                               Интернет, книги, рассказ деда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                                             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посещение мемориального  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                                     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комплекса «Хатынь»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                                                         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Ход выполнения работы               Я побывала в мемориальном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                 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комплексе «Хатынь» и услышала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                                                          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трагическую историю этой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деревни, дополнила ее собранной 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информацией и воспоминаниями дед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                    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323640" y="259920"/>
            <a:ext cx="41036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Помните,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Через века,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Через года,-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Помните: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О тех,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Кто уже не придет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никогда-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помните!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Не плачьте!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В горле сдержите стоны,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Памяти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        </a:t>
            </a: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павших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                   </a:t>
            </a: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будьте достойны!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Вечно достойны!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Хлебом и песней, мечтой и стихами,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Жизнью просторной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Каждой секундой,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Каждым дыханьем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Будьте достойны!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Люди!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Пока сердца стучаться,-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Помните!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Какой ценой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Завоевано счастье,-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Пожалуйста, помните!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Песню свою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Отправляя в полет, -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6480" y="259920"/>
            <a:ext cx="413352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Помните: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О  тех,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Кто  уже никогда не споет,-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Помните!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Детям своим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Расскажите о них,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Чтобы запомнили!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Детям детей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Расскажите о них,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Чтобы тоже запомнили!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Во все времена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Бессмертной земли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Помните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К мерцающим звездам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Ведя корабли, -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О погибших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Помните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Встречайте трепетную весну,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Люди земли,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Убейте войну,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Прокляните войну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Люди земли!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Мечту пронесите через года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И жизнью наполните!..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Но о тех,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Кто уже не придет никогда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Заклинаю, -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Помните!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eaeaea"/>
                </a:solidFill>
                <a:latin typeface="Verdana"/>
              </a:rPr>
              <a:t>                                                          </a:t>
            </a:r>
            <a:endParaRPr b="0" lang="en-US" sz="11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932360" y="649116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Р.Рождественски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Мой дед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410508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Мой дедушка- Загорский Василий Михайлович. Во время войны был еще ребенком, и ему не пришлось воевать. Он все равно повидал ужасы войны. В деревне, в которой жила семья моего деда, проживали немцы. Мужчин сразу расстреливали, и поэтому моя прабабушка прятала своих сыновей в погребе. Однажды, когда немцы делали обход по деревне и искали мужчин, они заглянули в погреб, где находился мой дед. Немцы пустили очередь из автомата и ранили в ногу моего деда, но он терпел молча, боясь обнаружить себя. Немцы ушли, не найдя детей. Еще долго жил мой дед после этого…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4859280" y="1197000"/>
            <a:ext cx="4125960" cy="55198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189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5280" y="260280"/>
            <a:ext cx="4248000" cy="64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          </a:t>
            </a: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Осуществляя нацистскую политику геноцида и «выжженной земли», фашистские захватчики уничтожили в Белоруссии свыше 2 млн. 230 тыс. советских граждан. Оккупанты превратили в пепелища 209 городов и поселков городского типа, 9200 деревень, 10 тысяч колхозов, 92 совхоза, 316 машинно-тракторных   станций, 100 465 промышленных производственных зданий, 1200 тысяч сельских строений, в том числе 420 996 домов колхозников.</a:t>
            </a: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533840" y="333360"/>
            <a:ext cx="4392720" cy="61912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755640" y="33336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Это никогда не будет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забыто!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95160" y="1030320"/>
            <a:ext cx="7753680" cy="47973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900000" y="3500280"/>
            <a:ext cx="727236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22 </a:t>
            </a: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марта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1943 года фашисты уничтожили деревню Хатынь с ее жителям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В Белоруссии фашисты разорили 209 городов и городских поселков, 9200 сел и деревень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От рук захватчиков погибло 2 230 000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советских граждан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Это никогда не будет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забыто!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908000" y="115920"/>
            <a:ext cx="5545440" cy="34383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320"/>
                            </p:stCondLst>
                            <p:childTnLst>
                              <p:par>
                                <p:cTn id="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240"/>
                            </p:stCondLst>
                            <p:childTnLst>
                              <p:par>
                                <p:cTn id="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480"/>
                            </p:stCondLst>
                            <p:childTnLst>
                              <p:par>
                                <p:cTn id="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72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95280" y="333360"/>
            <a:ext cx="8209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В 54 КИЛОМЕТРАХ ОТ СТОЛИЦЫ СОВЕТСКОЙ БЕЛОРУССИИ, В ОДНОМ ИЗ КРАСИВЕЙШИХ УГОЛКОВ МИНЩИНЫ, КОТОРЫЙ, КАЖЕТСЯ, САМОЙ ПРИРОДОЙ СОТВОРЕН ДЛЯ ЖИЗНИ, РАДОСТИ И СЧАСТЬЯ ЛЮДЕЙ, КАК ПАМЯТНИК НЕПОКОРЕННОМУ НАРОДУ, КАК ВЕЧНАЯ СКОРБЬ О ТЕХ, КТО ПОГИБ В ГОДЫ ВЕЛИКОЙ ОТЕЧЕСТВЕННОЙ ВОЙНЫ, КАК СТРАСТНЫЙ ПРИЗЫВ К БОРЬБЕ ЗА СОХРАНЕНИЕ И УПРОЧЕНИЕ МИРА, ПОДНЯЛСЯ ИЗ БЕТОНА И ГРАНИТА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МЕМОРИАЛЬНЫЙ КОМПЛЕКС «ХАТЫНЬ»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3284640"/>
            <a:ext cx="7632720" cy="3240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352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3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79280" y="260280"/>
            <a:ext cx="896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На траурном митинге, посвященном открытию мемориального комплекса 5 июля 1969 года, выступил майор Советской Армии А. П. Желобкович. Детство его прошло в Хатыни. Счастливый случай помог ему избежать страшной участи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—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Я буду говорить от имени моей матери и отца, моих родных, друзей, близких. От имени тех, чей пепел лежит в этой земле... Это по ним сегодня, вчера и завтра звонят и будут звонить хатынские колокола. Моих сверстников, маленьких деревенских мальчишек, седобородых стариков и подростков, матерей и младенцев оплакивают они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2781360"/>
            <a:ext cx="417672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На братской могиле жителей деревни Венок памяти из белого мрамора со словами наказа мертвых к живым:   «Люди добрые, помните: любили мы жизнь, и Родину нашу, и Вас, дорогие. Мы сгорели живыми в огне. Наша просьба ко всем: пусть скорбь и печаль обернутся в мужество ваше и силу, чтобы смогли вы утвердить навечно мир и покой на земле. Чтобы отныне нигде и никогда в вихре пожаров жизнь не умирала!»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250920" y="2781360"/>
            <a:ext cx="4035240" cy="36338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9750"/>
                            </p:stCondLst>
                            <p:childTnLst>
                              <p:par>
                                <p:cTn id="7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385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5850"/>
                            </p:stCondLst>
                            <p:childTnLst>
                              <p:par>
                                <p:cTn id="8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50920" y="189000"/>
            <a:ext cx="889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С другой стороны Венка ответ живых погибшим: «Родные Вы наши. Головы в скорби великой склонив, стоим перед Вами. Вы не покорились фашистским убийцам в черные дни лихолетья. Вы приняли смерть, но пламя любви Вашей к Родине нашей советской вовек не погаснет. Память о Вас в народе бессмертна, как вечна земля и вечно солнце над нею!»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780000" y="1700280"/>
            <a:ext cx="5364000" cy="54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А было это так. 22 марта 1943 года неболь-шую белорусскую деревню Хатынь окружил карательный батальон войск СС особого назначения. Это «воинское» подразделение знало только одно — сеять смерть. Сейчас батальон готовился наброситься на очередную беззащитную и невинную жерт-ву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Каратели, набившие руку на расправах с мирным населением, и на этот раз дейст-вовали быстро, хладнокровно, професси-онально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Солдатня врывалась в крестьянские хаты и выбрасывала людей на улицу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Жителей сгоняли в сарай. В нем станови-лось все теснее и теснее. Матери пытались успокоить детей, но, предчувствуя что-то страшное, сами не могли сдержать слез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50760" y="1844640"/>
            <a:ext cx="3729240" cy="46087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4300"/>
                            </p:stCondLst>
                            <p:childTnLst>
                              <p:par>
                                <p:cTn id="10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6700"/>
                            </p:stCondLst>
                            <p:childTnLst>
                              <p:par>
                                <p:cTn id="11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2600"/>
                            </p:stCondLst>
                            <p:childTnLst>
                              <p:par>
                                <p:cTn id="11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6000"/>
                            </p:stCondLst>
                            <p:childTnLst>
                              <p:par>
                                <p:cTn id="12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8T11:52:18Z</dcterms:created>
  <dc:creator>Евгений</dc:creator>
  <dc:description/>
  <dc:language>en-US</dc:language>
  <cp:lastModifiedBy>Владимир</cp:lastModifiedBy>
  <dcterms:modified xsi:type="dcterms:W3CDTF">2011-10-29T12:51:35Z</dcterms:modified>
  <cp:revision>8</cp:revision>
  <dc:subject/>
  <dc:title>Хатынь- скорбная страница Великой Отечественной войны</dc:title>
</cp:coreProperties>
</file>