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C095-07F3-4F32-9602-13C4193005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9DC1-D18A-488B-B447-36CD66CD5E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829E-BA20-44D0-A5D6-EA12E7A979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31C3-5E99-4C18-92B2-AB98027BD9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A350-779B-4A24-9EC4-2D0EE183F1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76C5-25AC-4ABB-967B-971BAA85CD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6187-7E8F-4BD3-B748-68C782228A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975E-048D-4CD5-AF8E-BE75DAA81D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C00E-E168-4718-A10D-26FE490135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36DA-7B3B-49B3-B1BF-D0CFFBBEA0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5B74-1F6C-4B8F-8E3F-60809B9349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E19F-00C3-46A7-A13B-CAB54A3AD5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D3C6-4271-4109-A5BA-363BAD1BB9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C52A-D6E7-4A96-A4F2-B7202D026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8B0D-BCCA-471F-8C22-71C28E029E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F7B8-0663-43C8-8A5F-9D2D396D0A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5CCF-9921-49A1-A060-579CF41089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E3C8-D755-4629-8009-69FFEAF89D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FE7D-E4F4-41DF-8CE9-E98ECBDB4A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8371-5E2B-404E-BF2D-2CD781BE4B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62CA-B498-4742-B19A-31C9D75354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C922-BE15-41E3-B71A-093C534178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E529-094E-4AE9-A0D0-E1B0145F73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56CE-FDA2-4A03-A0F7-907B801736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B503-82A0-4DA2-B264-AEC9E77706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C25C-10B3-46FC-995D-B03F495542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86CE-DA3B-47B4-9D72-151073E564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A9E-56D7-4C0E-B48B-C7B5D5A6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B45-5593-462D-83D6-47EB07EC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E93-AA31-452E-B53A-CF8BD829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132-074C-4542-ACC7-15C857C9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58B1-A0E1-432F-9E2A-B4400673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5B04-4285-49AE-B75A-D4653D73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6346-DE3E-4C5A-953E-078FC6E7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E556-D870-40E1-84DA-27D9FBDD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E80C-C13F-4134-AE4A-969C1CF4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E94A-A753-4351-BCFA-824C453A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4B03-AB13-4F0B-81F5-9F980D3F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CA6-CB15-4B3B-9B95-0CA9F751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7935-3A5A-4E6C-94F9-E415129A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E1BB-780A-4FCF-A326-1B36E6F9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A4EB-2991-4BCE-B030-F36572AB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7566-376A-4A23-94F7-788004CA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672A-4232-496A-B4A0-203D3028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10C-58B2-4E94-B4EC-B515E7BA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33F-2CDC-4AAA-B2BB-CDA90300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9C6-CAF3-4B2B-B08B-E631E649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96E1-603F-4EA2-82EE-FD81F966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773-02B5-4C38-A94F-CE2899BF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CF1-220E-4FC6-94D9-4E3F9BC8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68C5-9BBA-42D5-9DDD-E31425E9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8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FBEA-2CA5-4754-BF56-8C86317F62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0CAD-D403-463F-8AC5-A87A5991B5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Box 10"/>
          <p:cNvSpPr/>
          <p:nvPr/>
        </p:nvSpPr>
        <p:spPr>
          <a:xfrm>
            <a:off x="701640" y="2187720"/>
            <a:ext cx="78501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182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О совершенствовании государственной политики в области технического регулирования в целях модернизации и технологического развития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меститель Мини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мышленности и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ссийской Федераци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.Ю. Салам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1"/>
          <p:cNvGraphicFramePr/>
          <p:nvPr/>
        </p:nvGraphicFramePr>
        <p:xfrm>
          <a:off x="74707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07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877464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3f71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14480" y="73080"/>
            <a:ext cx="73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Этапы развития нормативной правовой базы в области технического регу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0"/>
          <p:cNvGraphicFramePr/>
          <p:nvPr/>
        </p:nvGraphicFramePr>
        <p:xfrm>
          <a:off x="500040" y="1089000"/>
          <a:ext cx="8105760" cy="557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089000"/>
                    <a:ext cx="8105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95400" y="-1908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Гармонизация систем технического регулирования в рамках формирования Единого Экономического Пространства (ЕЭ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880848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355680" y="1000080"/>
          <a:ext cx="8483400" cy="581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1000080"/>
                    <a:ext cx="848340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343080" y="87624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080" y="87624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748656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656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Программа разработки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13"/>
          <p:cNvGraphicFramePr/>
          <p:nvPr/>
        </p:nvGraphicFramePr>
        <p:xfrm>
          <a:off x="660240" y="901800"/>
          <a:ext cx="7886880" cy="595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0240" y="901800"/>
                    <a:ext cx="788688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324000" y="85716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85716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Box 10"/>
          <p:cNvSpPr/>
          <p:nvPr/>
        </p:nvSpPr>
        <p:spPr>
          <a:xfrm>
            <a:off x="701640" y="337500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 Black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20:12:38Z</dcterms:created>
  <dc:creator>vchugunova001</dc:creator>
  <dc:description/>
  <dc:language>en-US</dc:language>
  <cp:lastModifiedBy>GaynutdinovAK</cp:lastModifiedBy>
  <dcterms:modified xsi:type="dcterms:W3CDTF">2010-02-01T11:31:44Z</dcterms:modified>
  <cp:revision>856</cp:revision>
  <dc:subject/>
  <dc:title>Slide 1</dc:title>
</cp:coreProperties>
</file>